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C74-C543-405B-BF12-A8041A68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EEB-B5D2-479F-AEF3-D6521727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708-E534-4B04-AC96-81A555B8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B79-E2A0-4D85-B76F-152F65E4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E8B-1934-4A98-B907-B0E3279B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C98-D845-404F-AC14-C8B9AC84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8F6-BBE9-4206-8E88-839770AA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74B-2CA7-400E-923E-A76313D6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BA3-BFF8-4384-B0EC-9BD15759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3D3-D922-49DA-97D9-98674BE6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746-CB25-4D8A-A7DF-AD85C7FF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1EC-CBB3-44E8-9EAE-DDBF5A58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E875-C162-48EE-814E-B6BB1281C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8000" cy="73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rzeugung eines Farbbilde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m Beispiel von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GC 30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564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"/>
              </a:rPr>
              <a:t>Das H</a:t>
            </a:r>
            <a:r>
              <a:rPr b="0" lang="el-GR" sz="4400" spc="-1" strike="noStrike">
                <a:solidFill>
                  <a:srgbClr val="ffcc00"/>
                </a:solidFill>
                <a:latin typeface="Arial"/>
                <a:ea typeface="Arial"/>
              </a:rPr>
              <a:t>α</a:t>
            </a:r>
            <a:r>
              <a:rPr b="0" lang="de-DE" sz="4400" spc="-1" strike="noStrike">
                <a:solidFill>
                  <a:srgbClr val="ffcc00"/>
                </a:solidFill>
                <a:latin typeface="Arial"/>
                <a:ea typeface="Arial"/>
              </a:rPr>
              <a:t>-B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564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as Infrarot-B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19810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as visuelle B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19810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1973160"/>
            <a:ext cx="6107040" cy="488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219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00"/>
                </a:solidFill>
                <a:latin typeface="Arial"/>
              </a:rPr>
              <a:t>Überlagerung der drei Teilbilder</a:t>
            </a:r>
            <a:br>
              <a:rPr sz="4000"/>
            </a:br>
            <a:r>
              <a:rPr b="0" lang="de-DE" sz="4000" spc="-1" strike="noStrike">
                <a:solidFill>
                  <a:srgbClr val="ffcc00"/>
                </a:solidFill>
                <a:latin typeface="Arial"/>
              </a:rPr>
              <a:t>mit Hilfe des RGB-Compo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48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68360" y="19810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19810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4:14:16Z</dcterms:created>
  <dc:creator>Udo Backhaus</dc:creator>
  <dc:description/>
  <dc:language>en-US</dc:language>
  <cp:lastModifiedBy>Udo Backhaus</cp:lastModifiedBy>
  <dcterms:modified xsi:type="dcterms:W3CDTF">2009-01-19T14:25:22Z</dcterms:modified>
  <cp:revision>3</cp:revision>
  <dc:subject/>
  <dc:title>Folie 1</dc:title>
</cp:coreProperties>
</file>